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A65-6EA7-4A37-89C4-029A0BB1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552-A6E8-4659-9853-CF6DA02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A98-CB7E-453F-B597-9CA59E9B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23D-08E7-4E3E-A4B4-0421EAC6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77B-9D83-459D-A727-A5C311F0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6C8-BE21-4EA3-A55F-C147D0C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D30-5DC8-4A61-A781-A30F1040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A21-CC44-47C7-A530-5F541301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B4F-832E-4639-9E9B-6D9E1359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7F8-35E4-4184-92B9-B48D01E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237-A836-4959-B894-0D44643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EC8-6431-4546-ABA9-C185458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19B1-BDE2-4CE5-A0B4-7AA34D14E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8"/>
          <p:cNvSpPr/>
          <p:nvPr/>
        </p:nvSpPr>
        <p:spPr>
          <a:xfrm>
            <a:off x="419040" y="209700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on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9"/>
          <p:cNvSpPr/>
          <p:nvPr/>
        </p:nvSpPr>
        <p:spPr>
          <a:xfrm>
            <a:off x="1503360" y="316404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Dien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0"/>
          <p:cNvSpPr/>
          <p:nvPr/>
        </p:nvSpPr>
        <p:spPr>
          <a:xfrm>
            <a:off x="3127320" y="209880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ittw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1"/>
          <p:cNvSpPr/>
          <p:nvPr/>
        </p:nvSpPr>
        <p:spPr>
          <a:xfrm>
            <a:off x="4570560" y="31845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Donner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6558120" y="20970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rei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1"/>
          <p:cNvSpPr/>
          <p:nvPr/>
        </p:nvSpPr>
        <p:spPr>
          <a:xfrm>
            <a:off x="762120" y="423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am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2"/>
          <p:cNvSpPr/>
          <p:nvPr/>
        </p:nvSpPr>
        <p:spPr>
          <a:xfrm>
            <a:off x="4600440" y="430704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nn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1" descr=""/>
          <p:cNvPicPr/>
          <p:nvPr/>
        </p:nvPicPr>
        <p:blipFill>
          <a:blip r:embed="rId1"/>
          <a:stretch/>
        </p:blipFill>
        <p:spPr>
          <a:xfrm>
            <a:off x="1371600" y="285840"/>
            <a:ext cx="608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2158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Jan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080" y="3530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Febr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886040" y="2222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Mär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362320" y="3530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781440" y="2254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M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962520" y="3546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527800" y="2173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Ju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15000" y="3530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781680" y="227952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76440" y="4764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Ok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314880" y="4762440"/>
            <a:ext cx="24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327720" y="467352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ez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1085760" y="365040"/>
            <a:ext cx="70214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9280" y="10666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ute 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g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der”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+ “te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– 19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+ “ste”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 - 3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-49320" y="2786040"/>
            <a:ext cx="240192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2335320" y="2798640"/>
            <a:ext cx="135864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3"/>
          <a:stretch/>
        </p:blipFill>
        <p:spPr>
          <a:xfrm>
            <a:off x="3882960" y="2846520"/>
            <a:ext cx="1822680" cy="104904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5" descr=""/>
          <p:cNvPicPr/>
          <p:nvPr/>
        </p:nvPicPr>
        <p:blipFill>
          <a:blip r:embed="rId4"/>
          <a:stretch/>
        </p:blipFill>
        <p:spPr>
          <a:xfrm>
            <a:off x="6108840" y="2865600"/>
            <a:ext cx="2401920" cy="10540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6" descr=""/>
          <p:cNvPicPr/>
          <p:nvPr/>
        </p:nvPicPr>
        <p:blipFill>
          <a:blip r:embed="rId5"/>
          <a:stretch/>
        </p:blipFill>
        <p:spPr>
          <a:xfrm>
            <a:off x="1968480" y="-23760"/>
            <a:ext cx="491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14400" y="380880"/>
          <a:ext cx="7010280" cy="5943600"/>
        </p:xfrm>
        <a:graphic>
          <a:graphicData uri="http://schemas.openxmlformats.org/drawingml/2006/table">
            <a:tbl>
              <a:tblPr/>
              <a:tblGrid>
                <a:gridCol w="1752480"/>
                <a:gridCol w="914400"/>
                <a:gridCol w="259092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er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zwe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drit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vie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fünf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sech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sieb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ach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neu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zeh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elf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zwölf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09:40Z</dcterms:created>
  <dc:creator>udsd</dc:creator>
  <dc:description/>
  <dc:language>en-US</dc:language>
  <cp:lastModifiedBy>Alissa Hart</cp:lastModifiedBy>
  <dcterms:modified xsi:type="dcterms:W3CDTF">2014-10-23T15:21:40Z</dcterms:modified>
  <cp:revision>11</cp:revision>
  <dc:subject/>
  <dc:title>Slide 1</dc:title>
</cp:coreProperties>
</file>